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D3D-E594-4119-90E0-A557318D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A4A-A0FA-4C24-BF67-9F200371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C53-5C29-4D7A-94FF-0AEBB880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839-8E79-462E-A1E7-0E20AC94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3F3-3B47-417D-9505-61652A7F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564-6E81-4EFD-B8D0-E5D596A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111-001F-4B44-BAED-94B74B7C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F8D-C875-4C0F-A4F6-F51C885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73A-4BBF-479F-A684-DFDCC9C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1D4-0DC6-4350-95D0-CDDA4B3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756-C0B2-48ED-A878-2ADCB44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369-1A16-463B-A2D2-B00F892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A05-3F57-41C3-8C68-0F979D48A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14240" y="1499760"/>
            <a:ext cx="7872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nsolas"/>
                <a:ea typeface="Consolas"/>
              </a:rPr>
              <a:t>ОРГАНИЗАЦИОННО-РАСПОРЯДИТЕЛЬНЫЕ ДОКУМЕНТ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nsolas"/>
                <a:ea typeface="Consolas"/>
              </a:rPr>
              <a:t>(ОРД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4103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кладная запис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, адресованный руководителю данного или вышестоящего органа управления и содержащий обстоятельное изложение кого-либо вопроса с выводами и предложениями писавш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ужебная запис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 внутренней, деловой переписки между структурным подразделениями или должностными лицами не находящихся в прямом подч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3889440" cy="540072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046160" y="1600200"/>
            <a:ext cx="28638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пра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, содержащий описание подтверждающих фактов или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ра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лужебны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Л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бланк предприя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ь подписыва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5435640" y="357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7093080" y="3573360"/>
            <a:ext cx="9381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яв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это просьба о разрешении того или иного вопроса, касающегося осуществления предоставленных работнику пр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032360" cy="539928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исьм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это обобщенное название различных по содержанию документов служащих средством общения между учреждениями в процессе осуществления их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ав реквизи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1 или 2 или 3, 5, 8, 10, 11, 12, 15, 17, 18, 19 (может и не быть), 22,24(на гарантийных письм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а деля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изве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просьб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напомин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рантийное письм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пред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приглаш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-отказ и т.д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887640" cy="540072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а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вод правил, регулирующих деятельность организаций, учреждений, обществ, граждан их взаимоотношения с другими организациями и гражданами, права и обязанности в разных сферах государственного управления, хозяйственной или и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бязательный документ в соответствии с ГК РФ должен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ключать следующе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учреждения, организации, предприятия, его ви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нахождения (почтовый адре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 цель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бразования имущества (или уставного капитала, выпуска и распределения акций и т. 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пределения прибы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бразования учреждения (организации, предприятия), порядок управления и прекращения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ы управления (внутренняя организационная структу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0323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это нормативный акт, который определяет порядок образования, структуры, функции, компетенцию, обязанности и организацию работы тех или иных структу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уктура положения унифицирована и должна иметь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ледующие раздел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ие полож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и и задач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нк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а и обязанности,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89440" cy="547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0"/>
          <a:ext cx="217440" cy="7875720"/>
        </p:xfrm>
        <a:graphic>
          <a:graphicData uri="http://schemas.openxmlformats.org/drawingml/2006/table">
            <a:tbl>
              <a:tblPr/>
              <a:tblGrid>
                <a:gridCol w="217440"/>
              </a:tblGrid>
              <a:tr h="78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7"/>
          <p:cNvSpPr/>
          <p:nvPr/>
        </p:nvSpPr>
        <p:spPr>
          <a:xfrm>
            <a:off x="1800" y="7878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дитель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нки конкретного вида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ой текст распорядительного документ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меет 2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онстатирующая или вводная, где даётся обоснование предписанных действий. Основанием для приказа может быть нормативный документ, осуществление собой деятельности в целях или в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аспорядительная часть, которая начинается с определённого распорядительного предлога (ОБЯЗЫВАЮ, ПРИКАЗЫВА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казать, кто должен осуществлять контро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авовой акт, принимаемый высшими и некоторыми центральными органами коллегиального управления в целях разрешения наиболее важных и принципиальных задач, стоящих перед данным орг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3816360" cy="492912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дитель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3640" y="1125000"/>
            <a:ext cx="36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правовой акт, издаваемый руководителем предприятия, действующим на основе принципа единоначалия в целях разрешения основных и оперативных задач предприят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содержанию приказы делятся н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основной деятельност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личному состав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казы по ОД регулируют деятельность самой организации по вопроса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ё созд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организаци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иквидаци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ё структурных подразделений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ллегиальных органов и порядок их работ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гулирует организационно-правовые положения сотрудник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рядок финансир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териально-технического обеспече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учно-техническую политику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циальные вопрос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рядок осуществления специальных видов деятельности предприят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казы по ЛС регулируют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ё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мещени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вольнени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оставление всех видов отпуск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своение или утверждение разряд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сение взысканий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ощрений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гра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481640" y="-69480"/>
            <a:ext cx="180720" cy="1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4429080" cy="5572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дитель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е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равовой акт, издаваемый руководителем по оперативным вопросам повседневной, производственно -хозяйственной и административной деятельности пред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703680" cy="500076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, в котором фиксируется последовательность и содержание обсуждения коллегиальным органом поставленных вопросов и принятых ре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745080" cy="518472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Ак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, составленный группой лиц преимущественно комиссией, подтверждающей установленные ими факты или собы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3672000" cy="500076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справоч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ъяснительная запис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документ, составленный для пояснения отдельных положений выполненной и невыполнен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4103640" cy="5399280"/>
          </a:xfrm>
          <a:prstGeom prst="rect">
            <a:avLst/>
          </a:prstGeom>
          <a:ln w="0">
            <a:noFill/>
          </a:ln>
        </p:spPr>
      </p:pic>
    </p:spTree>
  </p:cSld>
  <p:transition spd="med" advTm="30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7:23:04Z</dcterms:created>
  <dc:creator>Ольга</dc:creator>
  <dc:description/>
  <dc:language>en-US</dc:language>
  <cp:lastModifiedBy>uchast11</cp:lastModifiedBy>
  <dcterms:modified xsi:type="dcterms:W3CDTF">2019-03-27T14:43:13Z</dcterms:modified>
  <cp:revision>76</cp:revision>
  <dc:subject/>
  <dc:title>Слайд 1</dc:title>
</cp:coreProperties>
</file>